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3869-602B-4035-8090-4013F68D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E56-85C4-4744-AF70-FBCD8882D3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AD7-C407-418F-8901-B00C840B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158-AD93-4BDA-A9F5-5E61825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D5B-F345-4C54-8ACA-1D1F132A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69F-D852-4C89-9937-FBB6ACDE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F27-BE81-4A0C-9C72-CF7F8966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703-6F5B-4B49-AE59-24DC7F6D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345-C53A-46CE-A8B9-69990AE0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C53-F23D-42E4-A190-E44C5DEA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8E6-0A6C-421B-A4EF-874E577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451-CA48-461C-AE96-F5F41B8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7FF-3FAA-47D5-99E3-4BE96C1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797-241E-49F6-88A9-34276D8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EC6-F8C6-442D-96D7-1EAA1C0D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7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Rockwell"/>
              </a:rPr>
              <a:t>Clear your desks and prepare for 3</a:t>
            </a:r>
            <a:r>
              <a:rPr b="1" lang="en-US" sz="8000" spc="-1" strike="noStrike" baseline="30000">
                <a:solidFill>
                  <a:srgbClr val="000000"/>
                </a:solidFill>
                <a:latin typeface="Rockwell"/>
              </a:rPr>
              <a:t>rd</a:t>
            </a:r>
            <a:r>
              <a:rPr b="1" lang="en-US" sz="8000" spc="-1" strike="noStrike">
                <a:solidFill>
                  <a:srgbClr val="000000"/>
                </a:solidFill>
                <a:latin typeface="Rockwell"/>
              </a:rPr>
              <a:t> Quarter Tes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518148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t your name, class, and today’s date on both of your test p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epare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Drop Pre/Post Worksheet Due Tomorrow (COMPLET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do you currently understand concepts of energy and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89AB07C3-11E4-455F-97BD-ABE739E7C2CC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view the important concepts and ideas explored during the 3</a:t>
            </a:r>
            <a:r>
              <a:rPr b="0" lang="en-US" sz="4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quarter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Quarter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he selected response questions (1 point e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he 3 short essay questions (2 points e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in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etly preview Energy and Motion Text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240" y="152280"/>
            <a:ext cx="1565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3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00" y="152280"/>
            <a:ext cx="144288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152280"/>
            <a:ext cx="176832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1828800"/>
            <a:ext cx="883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ULT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3124080"/>
            <a:ext cx="42670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zia 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2.4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9.4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7.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ner 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5.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rdan 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2.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remy J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8.2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124080"/>
            <a:ext cx="42674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 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4.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ddy 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.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ma 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5.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le A.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4.1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 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.6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sica 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440" y="121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gg Drop Reflection Worksheet           due tomorrow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previewing the textbook, how well do you believe you already understand energy and 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943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master of anything having to do with energy and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knowledgeable of many energy and motion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general idea about energy and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n’t know energy and motion if I ran into it on my bi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78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4:18Z</dcterms:created>
  <dc:creator>CCPS</dc:creator>
  <dc:description/>
  <dc:language>en-US</dc:language>
  <cp:lastModifiedBy>CCPS</cp:lastModifiedBy>
  <dcterms:modified xsi:type="dcterms:W3CDTF">2010-04-07T11:34:31Z</dcterms:modified>
  <cp:revision>1</cp:revision>
  <dc:subject/>
  <dc:title>Slide 1</dc:title>
</cp:coreProperties>
</file>